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215-88AB-4D24-83CD-CCF86D6A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19E-5125-43EE-B551-824A9B9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2DD-A067-4CD2-AC79-7E3BCAC4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79F-486A-4CD7-89D2-DBD715E2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D2E-965E-481E-A719-C36C4D7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55D-4F83-4ADB-800B-4BFC553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77F-25C9-4CCA-9E4F-E739F686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3CF-76AF-4FE9-8CD2-F6BC4F1F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0BE-74A8-48CB-B36E-083D6D4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FAC-E4B2-4D36-AEA0-C111614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A84-958C-4D1A-A791-E4A48DA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A58-E3F2-4C19-BC6A-FB4F197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9243ED-EE7C-47DC-988A-F138424D17F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scp.library.pitt.edu/" TargetMode="External"/><Relationship Id="rId3" Type="http://schemas.openxmlformats.org/officeDocument/2006/relationships/hyperlink" Target="http://oscp.library.pitt.edu/" TargetMode="External"/><Relationship Id="rId4" Type="http://schemas.openxmlformats.org/officeDocument/2006/relationships/hyperlink" Target="mailto:OSCP@mail.pitt.edu" TargetMode="External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0520" y="272880"/>
            <a:ext cx="9162720" cy="5852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0520" y="1828800"/>
            <a:ext cx="5257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osit in D-Scholarship@Pi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te in our altmetrics pro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the ULS Author fee f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rn about our publishing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Pitt’s Open Access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6720" y="4343400"/>
            <a:ext cx="575604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ffice of Scholarly Communication and Publi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oscp.library.pitt.ed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ail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SCP@mail.pitt.e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itter: @OSCP_Pi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40</Words>
  <Paragraphs>9</Paragraphs>
  <Company>University Library Syste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9:28:44Z</dcterms:created>
  <dc:creator>tsd</dc:creator>
  <dc:description/>
  <dc:language>en-US</dc:language>
  <cp:lastModifiedBy>tsd</cp:lastModifiedBy>
  <dcterms:modified xsi:type="dcterms:W3CDTF">2013-10-25T19:29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