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00CC-63D2-4862-B89D-E4A7B9A8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0CCC-1BFF-4B52-8771-EF749707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40A9-E3EA-489E-B779-D4F9989D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430F-3894-49F5-B467-0A93F198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41DB-E2B5-4B0A-ACB0-C22D0F3C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08D5-9F09-4E41-8AA4-7F9450BF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AEB8-FB5F-404C-8987-E9154945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3266-933F-48AF-AE1A-D396FCA4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D405-DDD9-4664-B5D8-53AA9216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ADC0-9623-4743-AC5A-9B28BBC6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4969-21C3-4F68-929F-1CBD2D10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614A-B7E6-4AA6-8890-071C7DFD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6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F6DB36-4148-4CD4-A65D-347B693DEDE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oscp.library.pitt.edu/" TargetMode="External"/><Relationship Id="rId3" Type="http://schemas.openxmlformats.org/officeDocument/2006/relationships/hyperlink" Target="http://oscp.library.pitt.edu/" TargetMode="External"/><Relationship Id="rId4" Type="http://schemas.openxmlformats.org/officeDocument/2006/relationships/hyperlink" Target="mailto:OSCP@mail.pitt.edu" TargetMode="External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0520" y="272880"/>
            <a:ext cx="9162720" cy="5852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0520" y="1828800"/>
            <a:ext cx="5257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posit in D-Scholarship@Pi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rticipate in our altmetrics proje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e the ULS Author fee f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arn about our publishing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pport Pitt’s Open Access Poli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76720" y="4343400"/>
            <a:ext cx="5756040" cy="14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ffice of Scholarly Communication and Publis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://oscp.library.pitt.edu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ail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OSCP@mail.pitt.ed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witter: @OSCP_Pit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40</Words>
  <Paragraphs>9</Paragraphs>
  <Company>University Library Syste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19:28:44Z</dcterms:created>
  <dc:creator>tsd</dc:creator>
  <dc:description/>
  <dc:language>en-US</dc:language>
  <cp:lastModifiedBy>tsd</cp:lastModifiedBy>
  <dcterms:modified xsi:type="dcterms:W3CDTF">2013-10-25T19:29:0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</vt:r8>
  </property>
</Properties>
</file>